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3F7-2A4F-4EF4-B6E6-8CE7A8D0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34C-B9F0-44A4-97E5-C01823B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BBC-DCB1-4F9C-9976-ED9B1542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611-EA11-4CD1-8E75-B0D7A130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BFE-70B2-49E4-8CBB-200D2B55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3B9C-7BAA-4AA4-8787-32D3725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ABBA-FD42-4DBB-A3CD-B99BADD2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3E2C-31DB-46FD-BCEB-AA6C613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7664-B8F7-4F6D-A335-8D61CB44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234-77DD-4D47-8E24-093F601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039-4510-4E6A-AE50-3D63801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AA5-E564-4EEA-BA70-020B5AFE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B7DB-D5EE-4E99-A8FE-17676BB3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5E1-C00A-4FF7-A6F0-7A8983C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65D-2BE5-4DE0-9924-1D11204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5700-2F34-40F4-A997-34A8A1C6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18C-BBFF-46D5-B6B4-8EED383B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2B2-E6AD-48A1-BB98-03DD43DB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0CE-B866-411F-8A40-9B0CE7B4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915-3495-4740-A6D8-38F3935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0F9-93F7-48DA-AAB4-C646842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23B-E707-4D09-BF32-0C952238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658-F5B7-49E4-B612-A1F6691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FCB-7D2B-4F9F-9613-7B3C8EE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F41-A74F-486E-AA4F-7685C819B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9E7-B163-42DF-82B9-05CD8F1C1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Why Use Excel?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Graph a Spiral or a Few Parabol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4000680" cy="306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37843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Times New Roman"/>
              </a:rPr>
              <a:t>Build a scale model of the Great Pyramid… 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4572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or find the biggest box you can make from a sheet of cardboard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9436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h, and you can plan the budget for a picnic, too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9724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3:42:48Z</dcterms:created>
  <dc:creator>CMCSS CMCSS</dc:creator>
  <dc:description/>
  <cp:keywords/>
  <dc:language>en-US</dc:language>
  <cp:lastModifiedBy>CMCSS CMCSS</cp:lastModifiedBy>
  <cp:lastPrinted>1904-01-01T00:00:00Z</cp:lastPrinted>
  <dcterms:modified xsi:type="dcterms:W3CDTF">2010-06-09T14:13:00Z</dcterms:modified>
  <cp:revision>1</cp:revision>
  <dc:subject/>
  <dc:title>Why Use Excel?</dc:title>
</cp:coreProperties>
</file>